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C1E-E221-49BA-866B-7B06A095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CCB-DA44-4881-9AED-3FB4CFA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C0E-A87B-4694-A716-C04C5796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DB9-A2D3-4D33-A6A8-5E55383F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46F-E3EE-48D3-BC1F-B0BABE4F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CA6-2254-49F7-BE43-97A69807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3A0-7C48-4BE7-BF13-29F1A469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C4B-4FB6-49A3-9548-22E8E713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B0C-AA9A-4589-A4DD-37B39CAB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00B-E22D-4F6D-8125-3AAC4F3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B5A-97A5-4D2A-9726-8B3454A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5B2-28C8-4398-B95A-91FAD21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470-E9EF-45C6-8B0B-334409AD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egal immigrants cross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order without the pr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perwork permitting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come citizens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088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 between a LEGAL immigrant and an ILLEGAL immi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t and hum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limate like in the Amaz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e Enterpri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ic system is the United States economy bas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ies that rely on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TER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land is too larg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vernment to regulat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hasn’t the illegal cutting of the Rainforest sto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y Mountains, Costal Plain, and Great Plains can be found on which 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Transpor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Broadc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Health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ree things does the Canadian government offer its citizens that the US government does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ndustry that produce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 instead of a produ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rvice Indus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it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ead economy - simulation that we did, what was the name of ONE of the THREE economies we talked about.  Please give me two facts about the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we are a mix of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United States considered a melting p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860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 or South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act Extravag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n F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e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, Mexico, 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NAFTA stand for?  Which three countries are apart of NAF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untry in which industry h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ed farming as the 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 acti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DUSTR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rming or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of the Amazon, what is the number one cause of defores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53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merigo BT"/>
              </a:rPr>
              <a:t>Teams prepare to make your WAGER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83808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ease list and EXPLAIN the five different types of deforest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ted States, Mexico, Canad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Green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OUR countries make up Nor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xed Mar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y does the U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includes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UL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farmer who only grows en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d for them and their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surv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term SUBSITANCE FARMER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RGEST country in Sou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ive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six in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Economic regions are there in the US?  Ca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who hunts and 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illeg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PO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8-10-15T12:51:36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